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5F3BE-807C-42EC-9C58-A56368748C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A02E7-75B2-4820-93E3-BAA9C8F31F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E5AD-93CE-4F36-A334-C413E1E679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3B1CD-C12A-441B-ABB0-1268881B1B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5682E-57E7-4D22-B95E-580130959A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44118-3006-4A8F-B92D-FC820954B28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6E234-2365-4A3B-9565-B881016EAF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C6D14-DBB3-4EDC-80F4-3B8E818CA9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C377B-DEAF-4AA3-8177-C55BD47CF4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A113-F404-4D23-BE17-C43840C39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B84F-5334-4F77-9168-A8829AD5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E578-65BC-4198-AEAE-3DFD869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6E87-FE9A-4184-BEDD-E54C9A218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9028-297A-4914-BE48-F146D408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ABDB-B518-4A2F-AF7B-A00F8A7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5421-3CD9-4F17-B70D-33802A5E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90CA-98D2-47BD-8118-554951C0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084E-F4E8-4204-9311-AF25BCB8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FF20-BB03-4343-BA08-DAAC7D0C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0EF4-E9E5-4208-9F3C-939AB51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5CC7-2CD3-41FE-82B5-640679D4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8ECDE-77DF-49F7-994E-C76F6C67492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%23page3" TargetMode="External"/><Relationship Id="rId3" Type="http://schemas.openxmlformats.org/officeDocument/2006/relationships/hyperlink" Target="file:///%23page4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6052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600360" y="126036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7e0021"/>
          </a:solidFill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P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OLCA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>
            <a:hlinkClick r:id="rId2"/>
          </p:cNvPr>
          <p:cNvSpPr/>
          <p:nvPr/>
        </p:nvSpPr>
        <p:spPr>
          <a:xfrm>
            <a:off x="1979640" y="324000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7e0021"/>
          </a:solidFill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RUP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LOS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>
            <a:hlinkClick r:id="rId3"/>
          </p:cNvPr>
          <p:cNvSpPr/>
          <p:nvPr/>
        </p:nvSpPr>
        <p:spPr>
          <a:xfrm>
            <a:off x="5219640" y="3240000"/>
            <a:ext cx="2160720" cy="1079640"/>
          </a:xfrm>
          <a:prstGeom prst="roundRect">
            <a:avLst>
              <a:gd name="adj" fmla="val 16667"/>
            </a:avLst>
          </a:prstGeom>
          <a:solidFill>
            <a:srgbClr val="7e0021"/>
          </a:solidFill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RUP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PLOS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680000" y="2340000"/>
            <a:ext cx="1440" cy="40320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2962440" y="2724120"/>
            <a:ext cx="3319200" cy="302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2962440" y="2752560"/>
            <a:ext cx="1440" cy="487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6283440" y="2725560"/>
            <a:ext cx="1440" cy="487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863640" y="5111640"/>
            <a:ext cx="180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5000b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n 2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6242040" cy="27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"/>
          <p:cNvSpPr/>
          <p:nvPr/>
        </p:nvSpPr>
        <p:spPr>
          <a:xfrm rot="5400000">
            <a:off x="-56052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33480" y="1274760"/>
            <a:ext cx="78865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s volcanes expulsan al aire grandes cantidades de gases tóxicos, piroclastos ardientes y cenizas que pueden sepultar poblaciones enteras, así como nubes ardientes que pueden abrasar todo a su pa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por tanto volcanes de gran peligros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lo general son volcanes de forma esbelta, y a veces, en sus erupciones mas violentas, el cono se derrumba para, con el tiempo y otras erupciones menos violentas, irse reconstruyen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s de volcanes que producen este tipo de erupciones son, por ejemplo, el Vesubio y el Krakato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898560" y="9079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8700"/>
                </a:solidFill>
                <a:latin typeface="Arial"/>
              </a:rPr>
              <a:t>Volcanes con erupciones explos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n 1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8370720" cy="32734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"/>
          <p:cNvSpPr/>
          <p:nvPr/>
        </p:nvSpPr>
        <p:spPr>
          <a:xfrm rot="5400000">
            <a:off x="-56052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84240" y="9036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  <a:ea typeface="Osaka"/>
              </a:rPr>
              <a:t>Tipos de erupciones y tipos de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33480" y="1274760"/>
            <a:ext cx="788652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n volcanes que, por lo general, expulsan lava muy líquida que fluye suavem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rmalmente son volcanes de poca peligrosidad, salvo casos de coladas muy rápidas o emisión de gases tóxicos, pero en general, con conocer por dónde discurre la lava suele bastar para que no ocasionen dañ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trata por lo general de volcanes en forma de escudo, de pendientes suaves y enorme extensión, debido al modo en que la lava se va depositando en sus lade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ejemplo de éstos volcanes son los volcanes de las islas Hawai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98560" y="9079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8700"/>
                </a:solidFill>
                <a:latin typeface="Arial"/>
              </a:rPr>
              <a:t>Volcanes con erupciones no explos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5T10:46:31Z</dcterms:modified>
  <cp:revision>44</cp:revision>
  <dc:subject/>
  <dc:title>Diapositiva 1</dc:title>
</cp:coreProperties>
</file>